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A" id="0">
      <p:sldLst>
        <p:sld r:id="rId5"/>
      </p:sldLst>
    </p:custShow>
    <p:custShow name="C" id="1">
      <p:sldLst>
        <p:sld r:id="rId6"/>
      </p:sldLst>
    </p:custShow>
    <p:custShow name="OV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487E-3366-4D25-8A34-2621896256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141-5DEA-4C34-A201-B1A6D8E7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6DF-1977-4A02-B1E6-5E7DA24D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D87-D163-4154-AC9D-9DBB448A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C6F-5FE7-4B6E-93A4-22145FEC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CE9-A5AA-4559-B2DE-14150855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AF2-B996-4B42-9A66-78E9EEB1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5A1-6948-4920-B184-B1F31682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080-4A55-47DC-BD28-2F2287F3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735-B5C8-477A-96D2-74146504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B88-DC73-45BF-9EAC-8D8722B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9A5-F6EF-4D4D-A8C5-0379E602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E3A-351B-4560-817B-B60D81C6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0725-A9CC-428B-AB90-C619B6625C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692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926160" y="4005360"/>
            <a:ext cx="13359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97164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36240" y="27813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55880" y="27082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38320" y="13413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470200" y="1341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590640" y="6165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VERAL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708360" y="3716280"/>
            <a:ext cx="1800360" cy="1513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490440" y="661356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Click on labels and ?s for further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24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2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4OH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5640" y="378936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OH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84360" y="436572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7:38Z</dcterms:created>
  <dc:creator>Scott Massara</dc:creator>
  <dc:description/>
  <dc:language>en-US</dc:language>
  <cp:lastModifiedBy>RomaK</cp:lastModifiedBy>
  <dcterms:modified xsi:type="dcterms:W3CDTF">2015-09-01T16:24:44Z</dcterms:modified>
  <cp:revision>7</cp:revision>
  <dc:subject/>
  <dc:title>Fuel Cell</dc:title>
</cp:coreProperties>
</file>